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F5A-A950-43E8-9FE3-94DCA02D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D1F-F7B5-458E-B0BA-263F972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573-2024-4B8E-94F6-796A2373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581-3483-47AD-8BBE-5B2325CA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CE0-8D88-43C7-B757-097834F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329-9C6B-41F0-8293-5F21A2AA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77D-E494-4C87-99D3-E034F54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CB8-1E89-4573-8D91-90208F58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AA3-2784-4A80-909F-95AB5F8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9E8-A323-4632-B15F-275C02B8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7BD-2EF2-4D9C-819E-5DD024E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D3E-7D44-4D5E-99D3-A38D0CC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796-EA51-49FB-AAEC-50B076A2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9876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25360" y="46836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LUENTO: Kari Si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37000" y="7667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Bookman Old Style"/>
              </a:rPr>
              <a:t>Vr 3 Kukko, Kuopio, Rautatieas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0640" y="3182760"/>
            <a:ext cx="5688000" cy="4264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97000" y="1042920"/>
            <a:ext cx="47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LEIKKAUSKU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r1 Ukko-Pe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3360" y="2987640"/>
            <a:ext cx="5975280" cy="36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6640" y="755640"/>
            <a:ext cx="540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HYÖ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Pien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Vk 4 Le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6948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in 1 kpl, käytössä Kuopion konepaj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916360"/>
            <a:ext cx="6858000" cy="442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6640" y="53964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Suur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Tr 2 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0280" y="3059280"/>
            <a:ext cx="6410520" cy="4803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7920" y="826920"/>
            <a:ext cx="5042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rikois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r 2 Hensk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640" y="81010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Bookman Old Style"/>
              </a:rPr>
              <a:t>Valm. Eestin valtiolle, ostettu Suomeen 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The 1005 as new"/>
          <p:cNvPicPr/>
          <p:nvPr/>
        </p:nvPicPr>
        <p:blipFill>
          <a:blip r:embed="rId1"/>
          <a:stretch/>
        </p:blipFill>
        <p:spPr>
          <a:xfrm>
            <a:off x="549360" y="4427640"/>
            <a:ext cx="5975280" cy="1660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2280" y="684360"/>
            <a:ext cx="56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Kuuluis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r 1 1005 Ukko-Pe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4640" y="6300720"/>
            <a:ext cx="626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uurilan onnettomuusveturi 19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uoli 28 henkeä, loukkaantui vakavasti 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25360" y="1258920"/>
            <a:ext cx="46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Luento kaikista Suomessa käytössä olleista höyryveture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Luentovarauk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kasii@mbnet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21:33:18Z</dcterms:created>
  <dc:creator>User name placeholder</dc:creator>
  <dc:description/>
  <dc:language>en-US</dc:language>
  <cp:lastModifiedBy>User name placeholder</cp:lastModifiedBy>
  <dcterms:modified xsi:type="dcterms:W3CDTF">2007-12-27T21:00:08Z</dcterms:modified>
  <cp:revision>7</cp:revision>
  <dc:subject/>
  <dc:title>Dia 1</dc:title>
</cp:coreProperties>
</file>