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EF4-3C45-4C9C-ACD9-35186E8E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60D-AE63-440C-A516-69480D9E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E10-4804-420F-A1BC-ABFD2CCE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C6B-6489-465E-8B95-B0AB241C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52B-A498-434A-B721-1841526C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9E9-516E-4B8C-A723-111F8FA0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DF1-E9E8-48B3-80DB-91ABCFE3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3EB-53A6-4166-B5AF-749F2A56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F57-0C59-40DA-B7F1-858A7DE3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DD2-2387-4DEC-93E4-BA4FA911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3EC-20A1-471F-8522-BF43BE8C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B18-B9DF-40B8-84AF-691EBE86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A0C6-DD6D-4D15-879C-C69BC8BC5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98764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25360" y="468360"/>
            <a:ext cx="504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HÖYRYVETU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LUENTO: Kari Si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37000" y="766764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Bookman Old Style"/>
              </a:rPr>
              <a:t>Vr 3 Kukko, Kuopio, Rautatieas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0640" y="3182760"/>
            <a:ext cx="5688000" cy="4264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97000" y="1042920"/>
            <a:ext cx="475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HÖYRYVETU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LEIKKAUSKU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Hr1 Ukko-Pek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3360" y="2987640"/>
            <a:ext cx="5975280" cy="360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36640" y="755640"/>
            <a:ext cx="5400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Bookman Old Style"/>
              </a:rPr>
              <a:t>HYÖRYVETU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Bookman Old Style"/>
              </a:rPr>
              <a:t>Pienin Suom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Bookman Old Style"/>
              </a:rPr>
              <a:t>Vk 4 Le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25360" y="6948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Vain 1 kpl, käytössä Kuopion konepaj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916360"/>
            <a:ext cx="6858000" cy="442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6640" y="539640"/>
            <a:ext cx="518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Bookman Old Style"/>
              </a:rPr>
              <a:t>HÖYRYVETU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Bookman Old Style"/>
              </a:rPr>
              <a:t>Suurin Suom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Bookman Old Style"/>
              </a:rPr>
              <a:t>Tr 2 Tr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0280" y="3059280"/>
            <a:ext cx="6410520" cy="4803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7920" y="826920"/>
            <a:ext cx="5042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HÖYRYVETU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Erikoisin Suom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Pr 2 Hensk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0640" y="810108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Bookman Old Style"/>
              </a:rPr>
              <a:t>Valm. Eestin valtiolle, ostettu Suomeen 19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The 1005 as new"/>
          <p:cNvPicPr/>
          <p:nvPr/>
        </p:nvPicPr>
        <p:blipFill>
          <a:blip r:embed="rId1"/>
          <a:stretch/>
        </p:blipFill>
        <p:spPr>
          <a:xfrm>
            <a:off x="549360" y="4427640"/>
            <a:ext cx="5975280" cy="1660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92280" y="684360"/>
            <a:ext cx="5616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HÖYRYVETU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Kuuluisin Suom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Hr 1 1005 Ukko-Pek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4640" y="6300720"/>
            <a:ext cx="6264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Kuurilan onnettomuusveturi 195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Kuoli 28 henkeä, loukkaantui vakavasti 1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25360" y="1258920"/>
            <a:ext cx="4608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Bookman Old Style"/>
              </a:rPr>
              <a:t>Luento kaikista Suomessa käytössä olleista höyryveture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Bookman Old Style"/>
              </a:rPr>
              <a:t>Luentovarauks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Bookman Old Style"/>
              </a:rPr>
              <a:t>kasii@mbnet.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21:33:18Z</dcterms:created>
  <dc:creator>User name placeholder</dc:creator>
  <dc:description/>
  <dc:language>en-US</dc:language>
  <cp:lastModifiedBy>User name placeholder</cp:lastModifiedBy>
  <dcterms:modified xsi:type="dcterms:W3CDTF">2007-12-27T21:00:08Z</dcterms:modified>
  <cp:revision>7</cp:revision>
  <dc:subject/>
  <dc:title>Dia 1</dc:title>
</cp:coreProperties>
</file>